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524-1635-4308-8BC0-1292ACB8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B987-EE70-4ED4-99F6-D14A79D08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F80-3C01-47A1-8539-3C79917E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EA4B-6BBD-43AC-8C05-6C327B79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F72-6673-41E5-B256-83F0E3D8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68C-8A81-425F-BF89-4D9FEBA1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722-A7C6-4D55-965D-85C8F026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608C-4D15-452E-B9AF-A1A0A710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D7AA-CA60-4356-9BE9-43AEDE85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8C6-C158-404E-B9A0-FE188E8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D045-B081-4037-A2C2-970180C1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5AEA-1609-4B2E-9ADD-4857584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F37C-EA2F-404E-9272-44319D6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6347-0C59-42C7-B34E-341B8F1F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ACAC-EA58-4D2D-8D3F-8A5C277D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55FF-6F9F-483D-852C-5F2A892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67BF-BFCB-436E-9263-6746540E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5ED-07BD-46DA-A83C-D1251A4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624B-2B4C-40CA-A689-F0D2BECE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23F-3BFA-437B-AF89-84A444E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228-F842-4E3A-9FEE-E21890D9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C34-120A-4E2C-9442-00A0C18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C31-19DF-48BE-8217-6C9CD4CD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67B-424A-4598-BBB3-B2CF024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5FF-E98A-49A0-A701-ABC6ED2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557-6FBB-406A-9BBB-AEEE2B7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AED-5C9A-4EED-A1B9-F98B2ACD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38C7-2AD3-41F6-91BE-D9AFECBF0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Allison Zhe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s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uevos con salsa de to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comer bag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comer ce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beber le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 gusta beber jugo de nar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huevos"/>
          <p:cNvPicPr/>
          <p:nvPr/>
        </p:nvPicPr>
        <p:blipFill>
          <a:blip r:embed="rId1"/>
          <a:stretch/>
        </p:blipFill>
        <p:spPr>
          <a:xfrm>
            <a:off x="4800600" y="1752480"/>
            <a:ext cx="243828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bagels"/>
          <p:cNvPicPr/>
          <p:nvPr/>
        </p:nvPicPr>
        <p:blipFill>
          <a:blip r:embed="rId2"/>
          <a:stretch/>
        </p:blipFill>
        <p:spPr>
          <a:xfrm>
            <a:off x="5257800" y="9907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ketchup"/>
          <p:cNvPicPr/>
          <p:nvPr/>
        </p:nvPicPr>
        <p:blipFill>
          <a:blip r:embed="rId3"/>
          <a:stretch/>
        </p:blipFill>
        <p:spPr>
          <a:xfrm>
            <a:off x="7238880" y="2209680"/>
            <a:ext cx="1905120" cy="1160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leche"/>
          <p:cNvPicPr/>
          <p:nvPr/>
        </p:nvPicPr>
        <p:blipFill>
          <a:blip r:embed="rId4"/>
          <a:stretch/>
        </p:blipFill>
        <p:spPr>
          <a:xfrm>
            <a:off x="5638680" y="38862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Oranges_and_juice"/>
          <p:cNvPicPr/>
          <p:nvPr/>
        </p:nvPicPr>
        <p:blipFill>
          <a:blip r:embed="rId5"/>
          <a:stretch/>
        </p:blipFill>
        <p:spPr>
          <a:xfrm>
            <a:off x="5257800" y="3581280"/>
            <a:ext cx="2857680" cy="307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4800600" y="3581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evos y salsa de to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9436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5334120" y="649116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095880" y="6400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143680" y="6508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frosted-flakes"/>
          <p:cNvPicPr/>
          <p:nvPr/>
        </p:nvPicPr>
        <p:blipFill>
          <a:blip r:embed="rId6"/>
          <a:stretch/>
        </p:blipFill>
        <p:spPr>
          <a:xfrm>
            <a:off x="5638680" y="609480"/>
            <a:ext cx="2105280" cy="3009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6"/>
          <p:cNvSpPr/>
          <p:nvPr/>
        </p:nvSpPr>
        <p:spPr>
          <a:xfrm>
            <a:off x="533412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almuerz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f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beber s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apas fr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a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cookies para el po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fresh_noodles"/>
          <p:cNvPicPr/>
          <p:nvPr/>
        </p:nvPicPr>
        <p:blipFill>
          <a:blip r:embed="rId1"/>
          <a:stretch/>
        </p:blipFill>
        <p:spPr>
          <a:xfrm>
            <a:off x="4952880" y="1062000"/>
            <a:ext cx="34290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60199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d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sierramistnatural"/>
          <p:cNvPicPr/>
          <p:nvPr/>
        </p:nvPicPr>
        <p:blipFill>
          <a:blip r:embed="rId2"/>
          <a:stretch/>
        </p:blipFill>
        <p:spPr>
          <a:xfrm>
            <a:off x="5715000" y="4191120"/>
            <a:ext cx="1752480" cy="2428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5715000" y="6477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5181480" y="1295280"/>
            <a:ext cx="3405240" cy="2248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664240" y="3581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k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papas fritas"/>
          <p:cNvPicPr/>
          <p:nvPr/>
        </p:nvPicPr>
        <p:blipFill>
          <a:blip r:embed="rId4"/>
          <a:stretch/>
        </p:blipFill>
        <p:spPr>
          <a:xfrm>
            <a:off x="4876920" y="1143000"/>
            <a:ext cx="3733560" cy="2489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4876920" y="3581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3" descr="pasta"/>
          <p:cNvPicPr/>
          <p:nvPr/>
        </p:nvPicPr>
        <p:blipFill>
          <a:blip r:embed="rId5"/>
          <a:stretch/>
        </p:blipFill>
        <p:spPr>
          <a:xfrm>
            <a:off x="4524480" y="1143000"/>
            <a:ext cx="4057560" cy="2695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61722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bola de masa her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piz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cebollín panque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comer sorbete de naranja para el pos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gusta beber aq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ontent Placeholder 5" descr=""/>
          <p:cNvPicPr/>
          <p:nvPr/>
        </p:nvPicPr>
        <p:blipFill>
          <a:blip r:embed="rId1"/>
          <a:stretch/>
        </p:blipFill>
        <p:spPr>
          <a:xfrm>
            <a:off x="5486400" y="919080"/>
            <a:ext cx="2743200" cy="2833920"/>
          </a:xfrm>
          <a:prstGeom prst="rect">
            <a:avLst/>
          </a:prstGeom>
          <a:ln w="0">
            <a:noFill/>
          </a:ln>
        </p:spPr>
      </p:pic>
      <p:pic>
        <p:nvPicPr>
          <p:cNvPr id="136" name="Content Placeholder 8" descr=""/>
          <p:cNvPicPr/>
          <p:nvPr/>
        </p:nvPicPr>
        <p:blipFill>
          <a:blip r:embed="rId2"/>
          <a:stretch/>
        </p:blipFill>
        <p:spPr>
          <a:xfrm>
            <a:off x="5332320" y="4076640"/>
            <a:ext cx="3098880" cy="201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real%20pizza"/>
          <p:cNvPicPr/>
          <p:nvPr/>
        </p:nvPicPr>
        <p:blipFill>
          <a:blip r:embed="rId3"/>
          <a:stretch/>
        </p:blipFill>
        <p:spPr>
          <a:xfrm>
            <a:off x="5086440" y="1219320"/>
            <a:ext cx="3143160" cy="230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548640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a de masa herv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477120" y="3519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4681440" y="826920"/>
            <a:ext cx="3591000" cy="26924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1"/>
          <p:cNvSpPr/>
          <p:nvPr/>
        </p:nvSpPr>
        <p:spPr>
          <a:xfrm>
            <a:off x="4952880" y="3583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bollín panque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5"/>
          <a:stretch/>
        </p:blipFill>
        <p:spPr>
          <a:xfrm>
            <a:off x="5091120" y="638280"/>
            <a:ext cx="2224080" cy="296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4"/>
          <p:cNvSpPr/>
          <p:nvPr/>
        </p:nvSpPr>
        <p:spPr>
          <a:xfrm>
            <a:off x="62485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q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5091120" y="360360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bete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4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uen provech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all images were taken from various different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8:17Z</dcterms:created>
  <dc:creator>zhengall</dc:creator>
  <dc:description/>
  <dc:language>en-US</dc:language>
  <cp:lastModifiedBy>Allison Zheng</cp:lastModifiedBy>
  <dcterms:modified xsi:type="dcterms:W3CDTF">2011-04-15T00:03:56Z</dcterms:modified>
  <cp:revision>18</cp:revision>
  <dc:subject/>
  <dc:title>Las Comidas</dc:title>
</cp:coreProperties>
</file>